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7.gif" ContentType="image/gif"/>
  <Override PartName="/ppt/media/image18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20.gif" ContentType="image/gif"/>
  <Override PartName="/ppt/media/image19.wmf" ContentType="image/x-wmf"/>
  <Override PartName="/ppt/media/image17.wmf" ContentType="image/x-wmf"/>
  <Override PartName="/ppt/media/image14.gif" ContentType="image/gif"/>
  <Override PartName="/ppt/media/image1.gif" ContentType="image/gif"/>
  <Override PartName="/ppt/media/image2.wmf" ContentType="image/x-wmf"/>
  <Override PartName="/ppt/media/image15.wmf" ContentType="image/x-wmf"/>
  <Override PartName="/ppt/media/image4.gif" ContentType="image/gif"/>
  <Override PartName="/ppt/media/image8.png" ContentType="image/png"/>
  <Override PartName="/ppt/media/image16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348-41DE-402F-8007-C625EF65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6F6-9357-4B5F-9259-706D9EB5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2BC-9127-4B8F-9D02-4438AF5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CAF-5154-4BCA-AF21-88E10954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9DF-3067-4A31-95AD-E5C38B89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76C-CF71-4B11-BA79-4089D1AE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EC3-37AB-48A0-BAD1-8A6C299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B7E-392A-43DA-9489-84A7B411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366-8BB1-4B4C-8F94-F3AC7C9C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8FD-4760-4BF7-9D48-FA571EC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6D0-9A5E-40EE-9081-90509D8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314-C6C8-41B5-B0B4-1C6A1F4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08D-0F8A-4AD9-B0E3-B4D5886F7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den Coun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-12 Ma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Core State Standa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38862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19306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What Do We Do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 within your school when you’ll meet as a P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 lead by your Leadership Contac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ways have agenda and sign-in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cuss rolling out the new C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de on any PD you may need as a schoo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plete Modules and print certificates (file in notebook in your front off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ecome familiar with th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atch for changes/new information as it becomes available from D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ok for PD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hare! Share! Share! (Our chain is only as strong as the weakest lin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457200"/>
            <a:ext cx="1067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Do you know why you’re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eeling “Ready ,Set ,Go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onfident in your “Race to the Top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Is ACRE more than a parcel of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Does CCSS affect you? 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Ready to walk the Crosswalk? Unp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eeling WIKI-rea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609480"/>
            <a:ext cx="1614240" cy="184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52578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676520"/>
            <a:ext cx="89917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ank You For Being Here Today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essional Learning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y Level : Dr. Marily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 Level :  BCS Desig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Level : Leadershi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Level :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eady,Set,Go? Race to the Top? ACRE? Common Core? Essential Standards? Unpacking Documents? Crosswal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WIKI? Do I really need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53352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slips in the envelope on your table, work in your group to match the names to the defin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8120" y="468360"/>
            <a:ext cx="3052800" cy="3032640"/>
            <a:chOff x="168120" y="468360"/>
            <a:chExt cx="3052800" cy="3032640"/>
          </a:xfrm>
        </p:grpSpPr>
        <p:sp>
          <p:nvSpPr>
            <p:cNvPr id="55" name="Puzzle3"/>
            <p:cNvSpPr/>
            <p:nvPr/>
          </p:nvSpPr>
          <p:spPr>
            <a:xfrm rot="1972800">
              <a:off x="1991520" y="712440"/>
              <a:ext cx="846000" cy="166032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2"/>
            <p:cNvSpPr/>
            <p:nvPr/>
          </p:nvSpPr>
          <p:spPr>
            <a:xfrm rot="1972800">
              <a:off x="1128240" y="1743120"/>
              <a:ext cx="1350360" cy="151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4"/>
            <p:cNvSpPr/>
            <p:nvPr/>
          </p:nvSpPr>
          <p:spPr>
            <a:xfrm rot="1972800">
              <a:off x="627480" y="1264320"/>
              <a:ext cx="814320" cy="19335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1"/>
            <p:cNvSpPr/>
            <p:nvPr/>
          </p:nvSpPr>
          <p:spPr>
            <a:xfrm rot="1972800">
              <a:off x="934560" y="747000"/>
              <a:ext cx="1367280" cy="1152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6941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62412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19882800">
            <a:off x="1063800" y="1007640"/>
            <a:ext cx="2709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ntastic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 rot="1356600">
            <a:off x="5922720" y="1077840"/>
            <a:ext cx="286704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rvelous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19520" y="4419720"/>
            <a:ext cx="38862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onderful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20551200">
            <a:off x="509760" y="3125880"/>
            <a:ext cx="230472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You Go Girl!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 rot="2288400">
            <a:off x="6963840" y="3487320"/>
            <a:ext cx="191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ou The Man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‘s Ne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rrently (2011-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aching NC 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ssessing NC 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ext (Fall 201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Teaching Common Core Stat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Assessing Common Core Stat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230560" cy="221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1828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1295280"/>
            <a:ext cx="8229600" cy="401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e need to clean our brushes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246240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Be Inform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urriculum (CCSS) is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FEW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ess to cover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EEP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more detai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HIGHER-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higher 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37160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 rot="10800000">
            <a:off x="7162920" y="228564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5400000">
            <a:off x="7772040" y="38862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16200000">
            <a:off x="7997040" y="4945320"/>
            <a:ext cx="919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Stay Inform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e have created a resource to provide information to all teachers at all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Comic Sans MS"/>
              </a:rPr>
              <a:t>It’s our WIKI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You will be invited to join the BCS 6-12 Math WIKI page!  (How excit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There,  you will be able to access information about the CCSS with all the resources we can create, borrow, or steal. :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815840" cy="190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4120" y="5715000"/>
            <a:ext cx="19810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3:48:00Z</dcterms:created>
  <dc:creator>Bladen County Schools</dc:creator>
  <dc:description/>
  <dc:language>en-US</dc:language>
  <cp:lastModifiedBy>Bladen County Schools</cp:lastModifiedBy>
  <dcterms:modified xsi:type="dcterms:W3CDTF">2011-09-21T20:17:43Z</dcterms:modified>
  <cp:revision>16</cp:revision>
  <dc:subject/>
  <dc:title>Bladen County  6-12 Math Common Core State Standards </dc:title>
</cp:coreProperties>
</file>